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C08-A8CA-4C20-AD3E-7AE98C7A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28B8-918B-478B-84F4-06ECDFC6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4AD4-57C3-4C8D-BA9E-8CB795C6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E1B2-6F78-42D4-ABDC-96A4BC87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18DBD-9379-4D85-849C-18B1F45C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FA34B-10F6-45F1-A6E3-FAED906F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84654-A6AC-4B5A-9C7F-0C1E9688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6BA09-F1D7-405B-A51A-1875128D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BD9ED-D120-49B0-9117-650A0BA7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855CE-8F91-4F6D-92B7-C4253A2B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FA203-CD5B-4ACF-AD61-5011D6E3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13C-4629-40D6-AAA8-4DC8900D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96631-36C9-44E3-B1FF-A6E59B47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4CFD9-950C-4C08-A0E3-B00F3F7A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F81E6-705F-404D-8701-ED9D89F0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87E2D-A0C6-4A6A-808E-F5A9F514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88320-56C3-42D7-8727-4BAFB386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E8B-1AC0-4E4C-9708-5E8E35A8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40F-6E4E-4E74-99AD-0DD4B8F3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B64-4293-4CAA-A306-7D8B5026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58A-EF18-4178-B21E-3EE286B2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9E5-0008-4CB9-8334-04E2DDDB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A63B-C6D9-4ABF-AA91-3F83AD65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230-659C-498C-B21D-7301C188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5A3C-E9DE-490F-939B-B4D10475D5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4CC0-B9DA-461B-BA2B-D4421C1A6D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tis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ix Kingd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tis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iver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ingd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lant-lik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nimal-lik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ungus-l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ve to live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oi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nviron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ukaryot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unicellul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some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ulticellul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be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ath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tozoa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rotozoan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animal-like protists that are typicall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athogen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clud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amoeb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flagellate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iliates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porozoa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porozoans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rasitic protist that produces a spore (ex.  Plasmodium that causes malari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thers are Classified by how they mov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Amoebas-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ove by pseudopodia (arm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Flagellate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move by flagellum (whip-like tail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Ciliates-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ove by cilia (tiny hair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33001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gae:  Plant-Like Protis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ples include: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red alga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brown algae, green algae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iatom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euglenoids, and dinoflagella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ssified b/c they ar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roduc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inoflagella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cause the killer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red tid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at destroys areas of the marine eco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een algae-may be classified in the plantae kingdom so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d i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toothpast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nd to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thicken commercial ice crea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ungus-like Protis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ecompo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os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lime mol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er molds/downy milde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2781360" cy="1843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638680" y="3581280"/>
            <a:ext cx="266724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ortance of Protis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ists are believed to perhaps be ancestral to many plant, animal, and fungal species on earth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cient green algae and modern plants have the same type of chlorophyll in their cell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4:42:45Z</dcterms:created>
  <dc:creator>kmcgrady</dc:creator>
  <dc:description/>
  <dc:language>en-US</dc:language>
  <cp:lastModifiedBy>kmcgrady</cp:lastModifiedBy>
  <dcterms:modified xsi:type="dcterms:W3CDTF">2010-09-28T15:08:23Z</dcterms:modified>
  <cp:revision>2</cp:revision>
  <dc:subject/>
  <dc:title>Protista</dc:title>
</cp:coreProperties>
</file>